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3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7F5-6E34-4408-9EA4-6DD1F179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ECAC-88CD-4954-BE46-41A00D13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F290-8AB3-48A6-91D8-CE7D3396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9A04-C09F-4CF6-87A7-D503D5D7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7A8-AFCD-40CE-AA53-3DA8C407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ew mantra grew from Northside Pride and from th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17C6-084A-40B6-921D-AB187662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MAN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SION IS TO DRIVE INSTRUCTION AND INTEG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ROW STRONG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E HAS GIVEN US ANOTHER MAN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F09-EE9F-4BE0-A72B-42DB7F7D1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work—it’s in your fo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watch a brief video depicting the frame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a what else can you sh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058-DF1A-4F75-BB08-871CF5487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it and learn to this framework—it’s going to change how you teach—your expectations of student work and talk and engagement—commit to continued learning—we aren’t all alike-we all have different starting points, but we can all lea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045-C87C-48E2-8E50-7C7DFED0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PLC—commit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changing and when we cha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B70-A1F6-4820-8EFE-47D3229E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goes through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antras are only as good as the all of us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bout the acting—the daily d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bout what Dr. Smith says—it must come through you—you must believe—must commit—must lea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95F1-B79A-4A99-A59B-211056FF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 do we know about our man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only as good as the collective whole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think about rigor/relevance/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F67A-854B-4712-96F0-B3D39F2C6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joined a great team and we are a te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a’s ice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CAF-A4E8-4417-9B6C-0A0C4C9D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shoot for the classrooms and advisement  RIGOR  RELEVANCE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we act, what will we say, what will we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do a pair share activity that you will discuss the non-negotiables in Advisement and in the class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them pap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FF6-357F-41CA-AA34-171A202D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watch a short clip of a teacher using some whole brain strategies which happen to be caller response and EP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FF0-4115-4E8E-89CC-D1E87DE81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watch a short clip of a teacher using some whole brain strategies which happen to be caller response and EP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A8E-BA78-4434-9D2C-97C279CA8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need a caller response—everyone teaches one in advisement or in their stations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y—you need EPR strategies—everyone teaches and uses in advisement Wed. and in 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must have cooperative structures in your room to facilitate Quad D—in advisement teach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everyone must live rigor relevance relationships—how will you know—student work—student engagement—student/teacher talk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you are professionals and you should have rigor each day in your classrooms in every classroom. Colalborate and learn--Researching classroom management, rigor/relevance/relationships/ collaborating outside the walls or inside the walls/looking at student work/responding to kids online or in journals is rig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the power to transform your classroom—reevaluate your lessons—get them thinking—Something in Quad D every d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aboration—you plan lessons together if you have the same discipline; you look at student work and you look at stud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—you are the b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y—I appreciate you and I am on your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ly—I honor the work you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D42B-3BF0-4445-91FD-F9D43B426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made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s is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is 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47C-8BB7-4FE8-AEA4-F26777B9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806-4D0A-4ED5-A1FB-0BB3B4459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9E6-5CB0-4D5F-A3D8-073DE65D2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are rowing together—believing together—it’s easier—the synergy—energy when everyone is rowing together is powerful!  Be a team—Row rigor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E92E-FDEB-425A-AE11-FE324A5B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 folder—stuff for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-go over hi-ligh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—lunch du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upplies—first day; send kids to library and Pat will try to fix them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Day—Ms. Guinn will be on duty to get supplies for kids; send a note to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ction—P0; must explain it starts Thursday—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ming—one day for PD; starts with nonf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ay planning NF/looking at studen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ay is still planning, one looking at student work/data, one for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—no required meetings; PL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ipline—PK will do all the discipline this year; PBIS; ti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/PD; three p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IS and ti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for communication/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getting TIPS wr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05B-9BE2-4B20-800E-5C87A234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BB1-BA85-4C4A-A5A7-DB23BD6B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suc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B2E-CC6A-4B65-A051-14058760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2F3-2C6D-4E44-8BA8-6A6756EAA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suc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2EDB-C704-42DB-9724-8170DA98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—So how did we get to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ON in your fo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8/14/11 20:52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out your mission and ones read it to your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1EB-F50C-48F3-8080-11549630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BBE-B951-4977-A690-68727F52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9C8-652E-4D58-A3BA-A96D75D4D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B0C4-9AC7-49A5-BFAC-56A2296B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8/14/11 20:52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llenge you to again make four positive calls the firs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03B-513F-44F1-A878-19E4A04CF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06B-6F4F-4FA7-98EA-541C81D8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35C-5D12-4487-AC04-7D2B97D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512-BE72-471F-94F7-BB218C39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280-45EC-478C-BB12-08D2F753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B66-2213-443D-9EDA-8FA0A44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EF4-BF5E-4364-B3E3-DAD88A3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E3F-073C-4D9C-88F7-152A57A2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98A-4CC0-4E35-B0B1-7FFD03D9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733-835B-4233-8B40-80C73B74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2E0-ABBA-4204-9C89-2621243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9BE-6B62-487D-9005-3B13815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27A-7759-4C77-8EA8-680EFB3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98F-B99D-4E31-B756-2822229B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55640" y="132084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31880" y="2438280"/>
            <a:ext cx="8494560" cy="3281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951200" y="6315120"/>
            <a:ext cx="62593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07960" y="1447920"/>
            <a:ext cx="9036000" cy="50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ove The 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_____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low The 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31640" y="1371600"/>
            <a:ext cx="8604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op Tornad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" descr="5033797114_78850ce1d9_b.jpg"/>
          <p:cNvPicPr/>
          <p:nvPr/>
        </p:nvPicPr>
        <p:blipFill>
          <a:blip r:embed="rId1"/>
          <a:stretch/>
        </p:blipFill>
        <p:spPr>
          <a:xfrm>
            <a:off x="1803240" y="2050920"/>
            <a:ext cx="802656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3129771259_f13d764eff_b.jpg"/>
          <p:cNvPicPr/>
          <p:nvPr/>
        </p:nvPicPr>
        <p:blipFill>
          <a:blip r:embed="rId1"/>
          <a:stretch/>
        </p:blipFill>
        <p:spPr>
          <a:xfrm>
            <a:off x="2222640" y="0"/>
            <a:ext cx="5715000" cy="7620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55680" y="5562720"/>
            <a:ext cx="93726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riving Instruction and Integr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03240" y="838080"/>
            <a:ext cx="6896160" cy="4294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5680" y="5562720"/>
            <a:ext cx="9372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RTHSIDE PR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117440" y="457200"/>
            <a:ext cx="8001000" cy="2208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812880" y="3809880"/>
            <a:ext cx="8839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        RELEV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3"/>
          <p:cNvCxnSpPr>
            <a:stCxn id="70" idx="2"/>
          </p:cNvCxnSpPr>
          <p:nvPr/>
        </p:nvCxnSpPr>
        <p:spPr>
          <a:xfrm flipH="1">
            <a:off x="1879200" y="2665080"/>
            <a:ext cx="3239280" cy="11451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Straight Arrow Connector 5"/>
          <p:cNvCxnSpPr>
            <a:stCxn id="70" idx="2"/>
          </p:cNvCxnSpPr>
          <p:nvPr/>
        </p:nvCxnSpPr>
        <p:spPr>
          <a:xfrm>
            <a:off x="5118120" y="2665440"/>
            <a:ext cx="38880" cy="99288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Straight Arrow Connector 7"/>
          <p:cNvCxnSpPr>
            <a:stCxn id="70" idx="2"/>
          </p:cNvCxnSpPr>
          <p:nvPr/>
        </p:nvCxnSpPr>
        <p:spPr>
          <a:xfrm>
            <a:off x="5117760" y="2665080"/>
            <a:ext cx="3315240" cy="11451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TextBox 14"/>
          <p:cNvSpPr/>
          <p:nvPr/>
        </p:nvSpPr>
        <p:spPr>
          <a:xfrm>
            <a:off x="1650960" y="5257800"/>
            <a:ext cx="57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orestandards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of Rigor i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5" descr=""/>
          <p:cNvPicPr/>
          <p:nvPr/>
        </p:nvPicPr>
        <p:blipFill>
          <a:blip r:embed="rId1"/>
          <a:stretch/>
        </p:blipFill>
        <p:spPr>
          <a:xfrm>
            <a:off x="360360" y="4840200"/>
            <a:ext cx="669960" cy="7495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6" descr=""/>
          <p:cNvPicPr/>
          <p:nvPr/>
        </p:nvPicPr>
        <p:blipFill>
          <a:blip r:embed="rId2"/>
          <a:stretch/>
        </p:blipFill>
        <p:spPr>
          <a:xfrm>
            <a:off x="360360" y="4005360"/>
            <a:ext cx="669960" cy="74268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7" descr=""/>
          <p:cNvPicPr/>
          <p:nvPr/>
        </p:nvPicPr>
        <p:blipFill>
          <a:blip r:embed="rId3"/>
          <a:stretch/>
        </p:blipFill>
        <p:spPr>
          <a:xfrm>
            <a:off x="360360" y="3243240"/>
            <a:ext cx="669960" cy="7430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8" descr=""/>
          <p:cNvPicPr/>
          <p:nvPr/>
        </p:nvPicPr>
        <p:blipFill>
          <a:blip r:embed="rId4"/>
          <a:stretch/>
        </p:blipFill>
        <p:spPr>
          <a:xfrm>
            <a:off x="360360" y="2444760"/>
            <a:ext cx="669960" cy="7430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5"/>
          <a:stretch/>
        </p:blipFill>
        <p:spPr>
          <a:xfrm>
            <a:off x="360360" y="1719360"/>
            <a:ext cx="669960" cy="742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357480" y="958680"/>
            <a:ext cx="63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11" descr=""/>
          <p:cNvPicPr/>
          <p:nvPr/>
        </p:nvPicPr>
        <p:blipFill>
          <a:blip r:embed="rId6"/>
          <a:stretch/>
        </p:blipFill>
        <p:spPr>
          <a:xfrm>
            <a:off x="1957320" y="5967360"/>
            <a:ext cx="676440" cy="7444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12" descr=""/>
          <p:cNvPicPr/>
          <p:nvPr/>
        </p:nvPicPr>
        <p:blipFill>
          <a:blip r:embed="rId7"/>
          <a:stretch/>
        </p:blipFill>
        <p:spPr>
          <a:xfrm>
            <a:off x="3176640" y="5967360"/>
            <a:ext cx="676080" cy="7444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3" descr=""/>
          <p:cNvPicPr/>
          <p:nvPr/>
        </p:nvPicPr>
        <p:blipFill>
          <a:blip r:embed="rId8"/>
          <a:stretch/>
        </p:blipFill>
        <p:spPr>
          <a:xfrm>
            <a:off x="4638600" y="5967360"/>
            <a:ext cx="671760" cy="74448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14" descr=""/>
          <p:cNvPicPr/>
          <p:nvPr/>
        </p:nvPicPr>
        <p:blipFill>
          <a:blip r:embed="rId9"/>
          <a:stretch/>
        </p:blipFill>
        <p:spPr>
          <a:xfrm>
            <a:off x="5919840" y="5967360"/>
            <a:ext cx="67608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15" descr=""/>
          <p:cNvPicPr/>
          <p:nvPr/>
        </p:nvPicPr>
        <p:blipFill>
          <a:blip r:embed="rId10"/>
          <a:stretch/>
        </p:blipFill>
        <p:spPr>
          <a:xfrm>
            <a:off x="7218360" y="5967360"/>
            <a:ext cx="669960" cy="744480"/>
          </a:xfrm>
          <a:prstGeom prst="rect">
            <a:avLst/>
          </a:prstGeom>
          <a:ln w="0">
            <a:noFill/>
          </a:ln>
        </p:spPr>
      </p:pic>
      <p:sp>
        <p:nvSpPr>
          <p:cNvPr id="87" name="Line 16"/>
          <p:cNvSpPr/>
          <p:nvPr/>
        </p:nvSpPr>
        <p:spPr>
          <a:xfrm>
            <a:off x="4317840" y="1054080"/>
            <a:ext cx="0" cy="4952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1066680" y="3619440"/>
            <a:ext cx="6858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ectangle 18" descr=""/>
          <p:cNvPicPr/>
          <p:nvPr/>
        </p:nvPicPr>
        <p:blipFill>
          <a:blip r:embed="rId11"/>
          <a:stretch/>
        </p:blipFill>
        <p:spPr>
          <a:xfrm>
            <a:off x="2036880" y="3809880"/>
            <a:ext cx="1071360" cy="170676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19" descr=""/>
          <p:cNvPicPr/>
          <p:nvPr/>
        </p:nvPicPr>
        <p:blipFill>
          <a:blip r:embed="rId12"/>
          <a:stretch/>
        </p:blipFill>
        <p:spPr>
          <a:xfrm>
            <a:off x="5443560" y="3882960"/>
            <a:ext cx="106668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20" descr=""/>
          <p:cNvPicPr/>
          <p:nvPr/>
        </p:nvPicPr>
        <p:blipFill>
          <a:blip r:embed="rId13"/>
          <a:stretch/>
        </p:blipFill>
        <p:spPr>
          <a:xfrm>
            <a:off x="5340240" y="1292400"/>
            <a:ext cx="1670040" cy="226836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1" descr=""/>
          <p:cNvPicPr/>
          <p:nvPr/>
        </p:nvPicPr>
        <p:blipFill>
          <a:blip r:embed="rId14"/>
          <a:stretch/>
        </p:blipFill>
        <p:spPr>
          <a:xfrm>
            <a:off x="1938240" y="1646280"/>
            <a:ext cx="110988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2" descr=""/>
          <p:cNvPicPr/>
          <p:nvPr/>
        </p:nvPicPr>
        <p:blipFill>
          <a:blip r:embed="rId15"/>
          <a:stretch/>
        </p:blipFill>
        <p:spPr>
          <a:xfrm>
            <a:off x="731880" y="9216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1219320" y="100476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8"/>
          <p:cNvSpPr/>
          <p:nvPr/>
        </p:nvSpPr>
        <p:spPr>
          <a:xfrm flipV="1">
            <a:off x="1447920" y="2209680"/>
            <a:ext cx="0" cy="32767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5195880" y="34304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6729480" y="583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5294160" y="5722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4699080" y="51814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355680" y="5943600"/>
            <a:ext cx="342900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7887"/>
          <p:cNvSpPr/>
          <p:nvPr/>
        </p:nvSpPr>
        <p:spPr>
          <a:xfrm>
            <a:off x="736560" y="6934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youtu.be/5Dn2oP2_4W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3551400"/>
            <a:ext cx="8675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ultimately want kids who think and do at high leve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ascd.org/professional-development/webinars/robyn-jackson-webinar.asp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55640" y="3551400"/>
            <a:ext cx="8675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Learning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s changing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5216340720_4900fe55d0_b.jpg"/>
          <p:cNvPicPr/>
          <p:nvPr/>
        </p:nvPicPr>
        <p:blipFill>
          <a:blip r:embed="rId1"/>
          <a:stretch/>
        </p:blipFill>
        <p:spPr>
          <a:xfrm>
            <a:off x="1879560" y="380880"/>
            <a:ext cx="499104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77960" y="3551400"/>
            <a:ext cx="860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Vision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we ACT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Mis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we SAY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acy in Mantra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 we BELIEVE Dai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TextBox 1" descr=""/>
          <p:cNvPicPr/>
          <p:nvPr/>
        </p:nvPicPr>
        <p:blipFill>
          <a:blip r:embed="rId1"/>
          <a:stretch/>
        </p:blipFill>
        <p:spPr>
          <a:xfrm>
            <a:off x="1878120" y="1371600"/>
            <a:ext cx="248580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510390453_55fe766e3c_z.jpg"/>
          <p:cNvPicPr/>
          <p:nvPr/>
        </p:nvPicPr>
        <p:blipFill>
          <a:blip r:embed="rId1"/>
          <a:stretch/>
        </p:blipFill>
        <p:spPr>
          <a:xfrm rot="20758800">
            <a:off x="178920" y="1725480"/>
            <a:ext cx="9512280" cy="2394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470480" y="5181480"/>
            <a:ext cx="50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ne man team is a complete and total my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 Sh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84280" y="1600200"/>
            <a:ext cx="867564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HOW are we going to act, and believ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What are we going to sa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WHAT are the non-negoti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Hal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Instruction/Lesson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lassroo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ollabo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Advis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ext Box 4" descr=""/>
          <p:cNvPicPr/>
          <p:nvPr/>
        </p:nvPicPr>
        <p:blipFill>
          <a:blip r:embed="rId1"/>
          <a:stretch/>
        </p:blipFill>
        <p:spPr>
          <a:xfrm>
            <a:off x="639720" y="1189080"/>
            <a:ext cx="8778960" cy="88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 Box 4" descr=""/>
          <p:cNvPicPr/>
          <p:nvPr/>
        </p:nvPicPr>
        <p:blipFill>
          <a:blip r:embed="rId1"/>
          <a:stretch/>
        </p:blipFill>
        <p:spPr>
          <a:xfrm>
            <a:off x="676440" y="3524400"/>
            <a:ext cx="87595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55640" y="3551400"/>
            <a:ext cx="867564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PERSONAL mant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Sim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Clear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Explicit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965160" y="2133720"/>
            <a:ext cx="3375000" cy="50608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1" descr=""/>
          <p:cNvPicPr/>
          <p:nvPr/>
        </p:nvPicPr>
        <p:blipFill>
          <a:blip r:embed="rId2"/>
          <a:stretch/>
        </p:blipFill>
        <p:spPr>
          <a:xfrm>
            <a:off x="3322800" y="2803680"/>
            <a:ext cx="640692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958680" y="2257560"/>
            <a:ext cx="80280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problems are rarely solved with commensurately big solutions. Instead, they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 solved by a </a:t>
            </a: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sequ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small sol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ometimes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s, sometimes over decade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n and Chip Heath, "Switch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7416720" y="3759120"/>
            <a:ext cx="217188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384880" y="685800"/>
            <a:ext cx="4584600" cy="605628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1" descr=""/>
          <p:cNvPicPr/>
          <p:nvPr/>
        </p:nvPicPr>
        <p:blipFill>
          <a:blip r:embed="rId2"/>
          <a:stretch/>
        </p:blipFill>
        <p:spPr>
          <a:xfrm>
            <a:off x="414360" y="1219320"/>
            <a:ext cx="467028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60240" y="4495680"/>
            <a:ext cx="906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ttp://youtu.be/vOPgE50fS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888840" y="9144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 ARE One Te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717640" y="2590920"/>
            <a:ext cx="449928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88840" y="533520"/>
            <a:ext cx="8028000" cy="81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Drop Box--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Staff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 and Duty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School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ay—Library; P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Two—Dave and Ms. Gu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NON-fiction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T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SIP/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 Schedule/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" descr="3287800301_8eeca344b5.jpg"/>
          <p:cNvPicPr/>
          <p:nvPr/>
        </p:nvPicPr>
        <p:blipFill>
          <a:blip r:embed="rId1"/>
          <a:stretch/>
        </p:blipFill>
        <p:spPr>
          <a:xfrm>
            <a:off x="6985080" y="47260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58680" y="2257560"/>
            <a:ext cx="8028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 rot="19941600">
            <a:off x="3965400" y="2381040"/>
            <a:ext cx="527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54120" y="3554280"/>
            <a:ext cx="880740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rst, successes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60240" y="762120"/>
            <a:ext cx="80280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 Pep Assemb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 rot="19939200">
            <a:off x="731520" y="2395080"/>
            <a:ext cx="849456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55680" y="914400"/>
            <a:ext cx="880740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pelling Bee—County Winner; Sam Pett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ademic Team—2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ademic Team—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Bowl—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st LHS Freshman Lampian Ind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03 Pins—32 Certificat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gebra MAP Scores—second in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 scores continue to go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r’s Guild Contest—2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EANEST BUILDING AW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cipline Incidents continue to dec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ater Production—ONLY MS in c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eerleaders—won numerous awards at summer cam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 Box 4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9461520" cy="5504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" descr=""/>
          <p:cNvPicPr/>
          <p:nvPr/>
        </p:nvPicPr>
        <p:blipFill>
          <a:blip r:embed="rId2"/>
          <a:stretch/>
        </p:blipFill>
        <p:spPr>
          <a:xfrm>
            <a:off x="2176560" y="291960"/>
            <a:ext cx="3900240" cy="10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4200" y="1616040"/>
            <a:ext cx="86518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                  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TR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82920" y="1828800"/>
            <a:ext cx="5194080" cy="5194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2" descr=""/>
          <p:cNvPicPr/>
          <p:nvPr/>
        </p:nvPicPr>
        <p:blipFill>
          <a:blip r:embed="rId2"/>
          <a:stretch/>
        </p:blipFill>
        <p:spPr>
          <a:xfrm>
            <a:off x="1036800" y="530280"/>
            <a:ext cx="77785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 Box 4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880920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 Box 4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8809200" cy="221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images.jpeg"/>
          <p:cNvPicPr/>
          <p:nvPr/>
        </p:nvPicPr>
        <p:blipFill>
          <a:blip r:embed="rId2"/>
          <a:stretch/>
        </p:blipFill>
        <p:spPr>
          <a:xfrm>
            <a:off x="2108160" y="1295280"/>
            <a:ext cx="6946920" cy="59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rista Sly</cp:lastModifiedBy>
  <cp:lastPrinted>2011-08-15T12:16:59Z</cp:lastPrinted>
  <dcterms:modified xsi:type="dcterms:W3CDTF">2011-08-15T15:48:47Z</dcterms:modified>
  <cp:revision>55</cp:revision>
  <dc:subject/>
  <dc:title>PowerPoint Presentation</dc:title>
</cp:coreProperties>
</file>